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E0FD-2A0E-4C49-A822-4F7BB4234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4ECA-B44F-4556-9378-7F172DC4C33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FF3-4741-4178-A09D-29B502B6A53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2926-6B70-47AA-80DF-17E54250D56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D2EF-D1D8-4493-A182-701737BBC91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B2A7-9209-4B6B-94B8-575556242D4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FB0-D054-482C-AA32-B59870F669C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2C4-B9BD-4470-BC36-40506D959E4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FF9-2809-4AAE-9711-FE50B918F25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2DFD-A77E-4BF7-8F8D-FC0FF663D6A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502D-B18C-4E91-A137-87EC3168FE2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99D-EB31-404D-8A66-EE459C7FF3C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667-DB3F-4748-9113-0207D5E9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357-F2FC-426A-9227-1B3BD70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242-0432-432D-BD2B-C164E93D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71E-BD88-4E1A-AB1C-BD11DB67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B5C-DDA2-409A-97BE-4DA9B734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09E-829C-46CC-83AA-DE5D9C5C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C13-0CAC-4A10-8123-1B96626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D5D-D1C7-4BC8-B853-35692EE2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F66-F982-48C2-93C6-A799951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312-2602-4751-8B6D-1ED4A49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DAE-B13F-4057-8338-0020801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0C5-9C59-4934-9518-8C9D34F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3D2A-4AD8-4B22-9B26-C93A20A71C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786F-5D6F-4187-A1B2-BCD1BE1414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187280" y="2421000"/>
            <a:ext cx="66009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 druhém roce implementace METODIKY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2. 1. 2019, VŠFS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CBF5-EC29-4260-AEF5-8BDA0F5FED4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FF88-FC49-4B34-82BC-EE337FE3CD0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266-FF7D-41A2-9074-C5338B7D995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FEBF-9E65-4A75-A1E6-02208821EEC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7, evidovaných v RIV k 31. 5.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C107-F6DC-4A82-A63B-C73F08C01CE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19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čet hodnoce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940040"/>
          <a:ext cx="7023240" cy="4446360"/>
        </p:xfrm>
        <a:graphic>
          <a:graphicData uri="http://schemas.openxmlformats.org/drawingml/2006/table">
            <a:tbl>
              <a:tblPr/>
              <a:tblGrid>
                <a:gridCol w="3044880"/>
                <a:gridCol w="1319040"/>
                <a:gridCol w="1301760"/>
                <a:gridCol w="1357560"/>
              </a:tblGrid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 realizace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BBBF-C59D-4554-84C3-4E553EE5D3F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FBD1-DCB7-45DA-BB64-2FDD327DEEEF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9579-1EE5-43E8-A3A9-A3BF7ACF831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, výzkumné organizace, členové poradních orgánů RV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F78-B03F-431A-A391-A5A58B4E4AE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237-063E-4316-812C-C2AB597B781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754-23B9-4F97-A42A-BB687057567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EKC</cp:lastModifiedBy>
  <cp:lastPrinted>2018-03-13T15:15:38Z</cp:lastPrinted>
  <dcterms:modified xsi:type="dcterms:W3CDTF">2019-01-22T11:18:33Z</dcterms:modified>
  <cp:revision>114</cp:revision>
  <dc:subject/>
  <dc:title>Prezentace aplikace PowerPoint</dc:title>
</cp:coreProperties>
</file>